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976-59F2-4F68-A271-1AD8F10A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314-5F3F-4EA9-9362-3059337C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E9C-703C-41AE-9C3C-58F0E038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E9F-6CE8-46A7-8CB0-F7C2A778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4C6-1616-47BA-91E5-0DF6A52A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8E0-7175-4428-AA8E-4B901504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021-272C-4755-9929-51F0B0F2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5B3-D557-472B-AA72-A565653B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164-4A37-4F67-88B2-CAF21204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F58-CCEA-4438-AD1A-9545DB10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14C-6016-44D4-9B34-03FF3A45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744-5CC3-4356-817B-78C733F4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E621-669B-4B34-B9AE-FBE8FA321BD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012680"/>
            <a:ext cx="862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26960" y="1844640"/>
            <a:ext cx="8393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حجر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أصحاب الحجر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حجر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9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27082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حج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س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حجر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سنة الله في الرسالة والرسل وأقوام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طبيعة المكذبين بهذا الد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أنظار إلى التأمل في بعض آيات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البشر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نبيه على مصارع الغا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856908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0T17:48:07Z</dcterms:modified>
  <cp:revision>1819</cp:revision>
  <dc:subject/>
  <dc:title>عرض تقديمي في PowerPoint</dc:title>
</cp:coreProperties>
</file>